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888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E1C-51EF-4116-BB93-18A8BA6E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B0F-3A5D-4E67-BFDE-875274B1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261-9188-4E5D-A180-249A57C9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1C0-0066-443A-BD9C-7F83B15B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3419-A6BA-405A-8A71-29944527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92F-C4B5-42BE-8758-0709C0FE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67C-A53E-4ED7-B580-2445185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840-EFDA-4641-9EC0-B8014FD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A04-0FDC-4D46-BFAF-149907C9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500-BADA-4BFA-83C5-F77935E6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7CD-CCD4-40B6-8CCF-CFB884A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D0BE-251F-4FBD-AC18-DD6AAE7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4C2-A15F-4C33-A97F-87E740B6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0E8C-B8CB-4ECE-B4BB-666D3365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353-E998-4A17-93E3-2CB742B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F10-AE3A-4402-8DEE-5AF8FAE7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297-45DB-49EF-9878-DD6C398C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4F1-C9FB-4DA5-8CE8-482DDB0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01AF-B596-4D15-8075-1CAD36C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8BE-1F62-4135-88F8-381BA58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8875-043F-4646-8318-4F8BC263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89C6-C677-4961-80E4-5947FF6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992-7BC3-4D92-BCD2-22D334CA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135-5653-4438-BD1A-E910447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9D4-74BB-49D3-A375-D015FE0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663-5F30-417B-A2BC-035E4635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243-3C82-4B3D-B91B-F34F010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2C1-BCBD-4C71-A943-57987B3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861-C47F-4F58-A30E-52778E2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13B-A036-4F34-8210-E998BF22DFC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641A-4B87-4964-94FA-0C0B53BAE0F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4 Major Sty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pecti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ism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larism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ism 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7335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dieval 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2" name="Picture 5" descr="giolam"/>
          <p:cNvPicPr/>
          <p:nvPr/>
        </p:nvPicPr>
        <p:blipFill>
          <a:blip r:embed="rId2"/>
          <a:stretch/>
        </p:blipFill>
        <p:spPr>
          <a:xfrm>
            <a:off x="0" y="984240"/>
            <a:ext cx="6324480" cy="587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400800" y="685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ocus on the di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lat, 2-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Same face/no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consistent size (body vs. le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saccio-Tribute Mo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1427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5" name="Picture 9" descr="Masaccio-tribute"/>
          <p:cNvPicPr/>
          <p:nvPr/>
        </p:nvPicPr>
        <p:blipFill>
          <a:blip r:embed="rId2"/>
          <a:stretch/>
        </p:blipFill>
        <p:spPr>
          <a:xfrm>
            <a:off x="152280" y="1905120"/>
            <a:ext cx="885348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otticelli, The Birth of Ven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7" name="Picture 4" descr="botticelli_venus"/>
          <p:cNvPicPr/>
          <p:nvPr/>
        </p:nvPicPr>
        <p:blipFill>
          <a:blip r:embed="rId2"/>
          <a:stretch/>
        </p:blipFill>
        <p:spPr>
          <a:xfrm>
            <a:off x="457200" y="1600200"/>
            <a:ext cx="8153280" cy="50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228600"/>
            <a:ext cx="2743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donna of Chancellor Roll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olin"/>
          <p:cNvPicPr/>
          <p:nvPr/>
        </p:nvPicPr>
        <p:blipFill>
          <a:blip r:embed="rId2"/>
          <a:stretch/>
        </p:blipFill>
        <p:spPr>
          <a:xfrm>
            <a:off x="3124080" y="457200"/>
            <a:ext cx="5799240" cy="61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763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BlackChancery"/>
              </a:rPr>
              <a:t>The Doge, Leonardo Loredon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BlackChancery"/>
              </a:rPr>
              <a:t>Berlini, 15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Bellini-The Doge Leonardo Loredon-1501-05"/>
          <p:cNvPicPr/>
          <p:nvPr/>
        </p:nvPicPr>
        <p:blipFill>
          <a:blip r:embed="rId2"/>
          <a:srcRect l="1840" t="2684" r="2454" b="14095"/>
          <a:stretch/>
        </p:blipFill>
        <p:spPr>
          <a:xfrm>
            <a:off x="2362320" y="1447920"/>
            <a:ext cx="4410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1:02:39Z</dcterms:created>
  <dc:creator>Will</dc:creator>
  <dc:description/>
  <dc:language>en-US</dc:language>
  <cp:lastModifiedBy>School District</cp:lastModifiedBy>
  <dcterms:modified xsi:type="dcterms:W3CDTF">2012-01-31T21:31:38Z</dcterms:modified>
  <cp:revision>16</cp:revision>
  <dc:subject/>
  <dc:title>Masaccio-Tribute Money 1427</dc:title>
</cp:coreProperties>
</file>